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Chapter" id="0">
      <p:sldLst>
        <p:sld r:id="rId4"/>
      </p:sldLst>
    </p:custShow>
    <p:custShow name="ELI Sect 2" id="1">
      <p:sldLst>
        <p:sld r:id="rId4"/>
        <p:sld r:id="rId5"/>
        <p:sld r:id="rId6"/>
        <p:sld r:id="rId7"/>
        <p:sld r:id="rId9"/>
        <p:sld r:id="rId10"/>
      </p:sldLst>
    </p:custShow>
    <p:custShow name="ELI Sect 3" id="2">
      <p:sldLst>
        <p:sld r:id="rId3"/>
        <p:sld r:id="rId8"/>
      </p:sldLst>
    </p:custShow>
    <p:custShow name="ELI Sect 4" id="3">
      <p:sldLst>
        <p:sld r:id="rId4"/>
      </p:sldLst>
    </p:custShow>
    <p:custShow name="ELI STP" id="4">
      <p:sldLst>
        <p:sld r:id="rId5"/>
        <p:sld r:id="rId7"/>
        <p:sld r:id="rId9"/>
      </p:sldLst>
    </p:custShow>
    <p:custShow name="Chapter menu" id="5">
      <p:sldLst>
        <p:sld r:id="rId4"/>
        <p:sld r:id="rId5"/>
        <p:sld r:id="rId6"/>
        <p:sld r:id="rId7"/>
        <p:sld r:id="rId9"/>
        <p:sld r:id="rId10"/>
        <p:sld r:id="rId3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thquak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4724280" y="61405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8">
            <a:hlinkClick r:id="" action="ppaction://hlinkshowjump?jump=nextslide"/>
          </p:cNvPr>
          <p:cNvSpPr/>
          <p:nvPr/>
        </p:nvSpPr>
        <p:spPr>
          <a:xfrm>
            <a:off x="5867280" y="6154560"/>
            <a:ext cx="8384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5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6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ying Earthquak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ing Earthquak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ing Earthquak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ing an Earthquak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-P-Time Method: Finding an Epicente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 Measuremen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strument used to measure and record earthquak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thod scientists use to locate an epicen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cales used to measure the magnitude and intensity of earthquak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tudying Earthquak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y of earthquakes and seismic waves is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ismolog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smologists use special sensing equipment to record, locate, and measure earthquak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cording Earthquak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mograp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ismo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smographs record three types of ground motion-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they are the fastest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 waves are the first seismic waves to be recorded by a seismogra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 waves are the second seismic waves to be recor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rface waves are the las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recorded by a seismograph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cating an Earthquak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498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determine the distance to an epicenter, scientists consult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g-time graph and analyze the arrival times of the P waves and S wa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-335880"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rt time of an earthquake can also be determined by this graph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-335880"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use computers to perform complex triangulations based on information from several seismograph stations. These calculations help determine the location of an earthquak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35880" indent="-335880"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computers were widely available, scientists used simpler, less precise calculations together with maps to locate earthquak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-P-Time Method: Finding an Epicente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8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Measuremen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41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gnitud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gnitud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itude is determined by measuring the amount of ground motion caused by an earthquak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the Richter scale was widely used for most of the 20th century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ientists now prefer to use the moment magnitude sc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ment magnitude is a measure of earthquake strength based on the *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7979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 Measuremen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1498320"/>
            <a:ext cx="804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ensit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ens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the development of magnitude scales, the size of an earthquake was described in terms of the earthquake’s effec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difi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ercalli scal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resses intensity in Roman numerals from I to XII and provides a description of the effects of each earthquake intensit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4-02-05T16:43:41Z</dcterms:modified>
  <cp:revision>690</cp:revision>
  <dc:subject/>
  <dc:title>No Slide Title</dc:title>
</cp:coreProperties>
</file>